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B7DF-65A8-45E5-8EA3-5C809FF5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100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325040"/>
            <a:ext cx="827100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923-67BF-4DAD-B44F-976CD354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32504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7920" y="432504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E20F-746F-4E02-B591-B66ECF7A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6120" y="197928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2600" y="197928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32504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6120" y="432504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2600" y="432504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CEB2-1957-4D85-BBCD-555309F6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4088-6C5A-42AA-9608-7B8B1A71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9640" y="1979280"/>
            <a:ext cx="82710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07BE-9AF1-43A0-B32D-FBD722C4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10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394C-D598-42A2-BD0D-16F0B437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A94B-1C15-4C47-85A0-1F729C6C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30F4-F2C4-478F-8DEB-0D9FE587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99640" y="720720"/>
            <a:ext cx="827100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D921-E66F-4F41-955F-9B1D0E8E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9640" y="432504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07CD-8B45-4702-9667-CD8FF966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979280"/>
            <a:ext cx="82710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33B1-3795-49B0-995E-55D0A1D0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7920" y="432504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B9BC-4A69-4564-ABF0-C66E02A7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9640" y="4325040"/>
            <a:ext cx="827100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4FA1-FF19-478E-9B42-D867FECB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100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9640" y="4325040"/>
            <a:ext cx="827100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7ADB-C223-438C-B6F5-33079A46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9640" y="432504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7920" y="432504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225D-753C-4191-B45B-8642FDFD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6120" y="197928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2600" y="197928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9640" y="432504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6120" y="432504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2600" y="432504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C0B3-E4B7-429B-8724-F0C31537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BD1E3-96B7-4185-AB1E-13C7ACBD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99640" y="1979280"/>
            <a:ext cx="82710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F53F6-2281-44E7-84CE-ACB0937A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10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87484-F974-4CF8-A73A-8461CDFF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33FC9-3ECD-4A11-8FB5-848B0708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C220B-D92C-45A4-80BC-C329AE4A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10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1C5-883E-4D2E-856F-89B154BC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99640" y="720720"/>
            <a:ext cx="827100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85253-178C-426A-BD7C-17E8E6F8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99640" y="432504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3F322-A1AE-41ED-BE08-9118BA8D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37920" y="432504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A19F4-FB0B-4D3A-96B9-51901B09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99640" y="4325040"/>
            <a:ext cx="827100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CE831-E77B-48E8-B45E-BCE01297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100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99640" y="4325040"/>
            <a:ext cx="827100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6D58F-A7DF-49DA-B425-6244C87E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99640" y="432504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37920" y="432504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BC32D-6309-4495-B152-8AAB7FFB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96120" y="197928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2600" y="197928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99640" y="432504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96120" y="432504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2600" y="432504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9C872-F6D6-4687-A0B9-1547A8F1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19607-7BD4-4E4A-8C33-6BFFE963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99640" y="1979280"/>
            <a:ext cx="82710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EAEBB-4BF6-4906-A9A9-E3C80985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10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C69FB-4748-4C70-B88F-6BA21F43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4FEE-28A7-45A9-AE97-C219275E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2E026-E9CC-4A63-9776-6C5A4876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50DC8-9515-4E96-A320-F252C84A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99640" y="720720"/>
            <a:ext cx="827100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DF938-BA91-4C3E-9681-77519ACF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99640" y="432504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74F56-7709-458D-9F38-AA86FBF4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37920" y="432504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B02EE-054F-4333-9EB7-C6B46EFC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99640" y="4325040"/>
            <a:ext cx="827100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85D75-E761-4998-BB6D-42A234C6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100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99640" y="4325040"/>
            <a:ext cx="827100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9AA17-18CF-45BF-8981-13C44F9C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99640" y="432504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37920" y="432504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112CB-FB56-42A9-A9F5-4E6A1358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96120" y="197928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92600" y="197928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99640" y="432504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96120" y="432504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92600" y="432504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9B5D0-9A83-4659-92F9-3C387FF4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105C3-E709-4FE4-871D-09C0C407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4D05-8DF3-4DB1-8B33-72ADB705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99640" y="1979280"/>
            <a:ext cx="82710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7F3DF-FF52-4035-A564-40C12F22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10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493CB-BD7C-4BDB-A835-0AB28986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85245-C568-49C0-BF17-5EB6E9E0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01CC2-0742-4BFC-9B55-EDBD608D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99640" y="720720"/>
            <a:ext cx="827100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FA0A8-B7FA-41E8-AB75-052860CD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99640" y="432504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37A8A-6F53-43EA-8812-1047A353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37920" y="432504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F403C-78C7-43AF-BE33-E076CC4E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99640" y="4325040"/>
            <a:ext cx="827100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C8F89-61D2-4B34-93AC-022821A3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100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99640" y="4325040"/>
            <a:ext cx="827100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996FC-86E1-4AFD-98C3-BBFEFDB2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99640" y="432504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37920" y="432504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59A41-1392-44C1-9BE2-69BD1E3B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9640" y="720720"/>
            <a:ext cx="827100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49D6-268E-45CC-AB6E-8A8625AD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96120" y="197928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92600" y="197928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99640" y="432504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96120" y="432504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92600" y="4325040"/>
            <a:ext cx="2662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518F6-2BCD-4037-AAA9-D66D07D0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32504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F89C-C640-409C-9699-91021B29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7920" y="432504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F5AB-844F-4D5A-BA1E-5CE9EEAB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7920" y="1979280"/>
            <a:ext cx="40359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325040"/>
            <a:ext cx="827100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387-E57A-4264-8928-8915C06A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798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03727-FD89-47C8-A2A3-E8A2B5BB9A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1360" cy="10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4502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7000"/>
          </a:bodyPr>
          <a:p>
            <a:pPr marL="2984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1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2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3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4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5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6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76080" y="630072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19280" y="6318360"/>
            <a:ext cx="3213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1720" y="63183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068A2-D2BD-4785-B64B-5D45F508F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99640" y="1979280"/>
            <a:ext cx="82710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D4C6C-F4EB-48FF-87AB-9922454427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1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9640" y="1979280"/>
            <a:ext cx="82710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B75D5-9AE7-43FF-B682-83464E9E6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028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4556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39640" y="63183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266640" y="6346800"/>
            <a:ext cx="31863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831000" y="634680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3F72F-9210-4EB3-BED2-175CFB451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2971800"/>
            <a:ext cx="800100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12 Presidential Election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657600" y="117144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ige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th 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99640" y="1979640"/>
            <a:ext cx="404028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ack Obama  believes the affordable care act ( many people call this Obama care)will protect the American people from bad insurance 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41520" y="1979640"/>
            <a:ext cx="404028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Mitt Romney believes the federal government should not have death tax and will eliminate death tax if he becomes preside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4173200" y="2514600"/>
            <a:ext cx="1440" cy="1440"/>
          </a:xfrm>
          <a:prstGeom prst="rect">
            <a:avLst/>
          </a:prstGeom>
        </p:spPr>
        <p:txBody>
          <a:bodyPr wrap="none" lIns="90000" rIns="90000" tIns="-45000" bIns="-450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ontwork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y and 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42584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ack Obama wants to create jobs by cutting taxes and raising them  on rich people . Example people who have privet jet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584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Mitt Romany thinks Barack Obama   hasn't done enough to create jobs and the economy is moving slower than ever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x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ack Obama says he will pursue enacting the buffet rule . He will extend the bush-era  tax cu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584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Mitt Romney will make a permanent across the board 20% tax cut . He will also eliminate death ta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and National Def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ack Obama will focus on Afghanistan and Iraq and end it by 2014 . and try to get everyone home safely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584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Mitt Romney will access the military in places and see if troops can be withdrawn 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ack Obama will  continue competitive grants to reform collages . And lower collage costs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584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Mitt Romney will shift power from federal level to reform education . And try to find better ways  to teach 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ack Obama thinks the dream act a bill that would allow responsible young immigrants who came as children to earn citizen 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584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Mitt Romney will increase border control and pursue constructing a high tech f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14400" y="345600"/>
            <a:ext cx="8275680" cy="77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imeforkids.com/minisite/election-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2743200"/>
            <a:ext cx="664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agazines.scholastic.com/election-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3200400"/>
            <a:ext cx="8915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20880" y="3200400"/>
            <a:ext cx="822312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eachervision.fen.com/us-presidency/elections/58186.html?detoured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5:28:36Z</dcterms:created>
  <dc:creator/>
  <dc:description/>
  <dc:language>en-US</dc:language>
  <cp:lastModifiedBy/>
  <cp:revision>1</cp:revision>
  <dc:subject/>
  <dc:title/>
</cp:coreProperties>
</file>